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312-FE8E-40E8-9523-0FC7171C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D6E-D6BB-4EFF-9073-3D4DDB5E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011-F2AD-4DF2-BA56-D3EC1F49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DB2-9180-4A67-889A-0B27CED9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368-A058-487C-BA5B-ECDF56CA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A8D-C045-47F0-95A6-1694B763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4DA-A35B-4608-B9EC-18ED5628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FC8-8374-44A7-B09E-5127210F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79D-10EA-4BA9-A976-02A897B4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DF2-E347-4909-A5F9-CBA3A38A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20D-A6A8-42D0-A5EE-8161B1D4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AE1-ECC6-4B80-A217-E33276D2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CF77-0807-4918-BB31-E0AFEBFB63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981000"/>
            <a:ext cx="756108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a20000"/>
                    </a:gs>
                  </a:gsLst>
                  <a:lin ang="5400000"/>
                </a:gradFill>
                <a:latin typeface="Georgia"/>
              </a:rPr>
              <a:t>Приёмы критического мышления</a:t>
            </a:r>
            <a:endParaRPr b="0" i="1" lang="en-US" sz="54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a200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3492360" y="2781360"/>
            <a:ext cx="5183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Метод Тони Рай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«Ключи мудре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8"/>
          <p:cNvSpPr/>
          <p:nvPr/>
        </p:nvSpPr>
        <p:spPr>
          <a:xfrm>
            <a:off x="468360" y="1700280"/>
            <a:ext cx="82072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ам предлагается перечень качеств педагога, который обучает талантливого уче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мпетентность, Доброжелатель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уткость, … Продолжите переч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611280" y="90792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Ключ «Конструкто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8"/>
          <p:cNvSpPr/>
          <p:nvPr/>
        </p:nvSpPr>
        <p:spPr>
          <a:xfrm>
            <a:off x="539640" y="907920"/>
            <a:ext cx="820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О мет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539640" y="1628640"/>
            <a:ext cx="8207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Этот метод представляет собой набор из нескольких различных действий /ключей/, разработанных для мотивации  учащихся к выполнению различных мыслительный операций. Ученикам предлагается ключ  в виде вопроса или слова, которые являются побуждением к действию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8"/>
          <p:cNvSpPr/>
          <p:nvPr/>
        </p:nvSpPr>
        <p:spPr>
          <a:xfrm>
            <a:off x="468360" y="1700280"/>
            <a:ext cx="82072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Здесь могут быть разные варианты слов и глаголов с частицей "не" , которые предлагается применить к изучаемому понятию, объекту, процессу или яв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Этот ключ помогает сфокусироваться на проблеме и выявить все аспе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Данный ключ активизирует мыслительную деятельность на уроках обобщени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611280" y="90792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Ключ «Наоборо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8"/>
          <p:cNvSpPr/>
          <p:nvPr/>
        </p:nvSpPr>
        <p:spPr>
          <a:xfrm>
            <a:off x="468360" y="1700280"/>
            <a:ext cx="82072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редложите варианты фраз, которые начинаются со слов «Талантливый ученик никогда не буде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611280" y="90792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Ключ «Наоборо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8"/>
          <p:cNvSpPr/>
          <p:nvPr/>
        </p:nvSpPr>
        <p:spPr>
          <a:xfrm>
            <a:off x="468360" y="1700280"/>
            <a:ext cx="82072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ащимся предлагается составить  слова от А до Я,  которые имеют отношение к изучаемой тем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школьной практике этот ключ помогает выявить взаимосвязь изучаемого понятия с другими ранее изученными, может затронуть межпредметные связи, вызывает интерес к изучаемому понятию в игров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611280" y="90792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Ключ «Алфави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8"/>
          <p:cNvSpPr/>
          <p:nvPr/>
        </p:nvSpPr>
        <p:spPr>
          <a:xfrm>
            <a:off x="468360" y="1700280"/>
            <a:ext cx="82072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Составьте слова от А до Я имеющие отношение к талантливым учен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611280" y="90792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Ключ «Алфави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8"/>
          <p:cNvSpPr/>
          <p:nvPr/>
        </p:nvSpPr>
        <p:spPr>
          <a:xfrm>
            <a:off x="468360" y="1700280"/>
            <a:ext cx="82072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Учащимся предлагается придумать новый вариант применения знакомого объекта или новый вариант развития событий, или же новую трактовку изучаемого поня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Этот ключ используется для обновления взглядов на известные понятия, позволяет в новом ракурсе рассмотреть знакомое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611280" y="90792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Ключ «Новый дизай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8"/>
          <p:cNvSpPr/>
          <p:nvPr/>
        </p:nvSpPr>
        <p:spPr>
          <a:xfrm>
            <a:off x="468360" y="1700280"/>
            <a:ext cx="82072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редставьте, что талантливый ученик о котором мы сегодня говорим – это ваш родной ребёнок. Подумайте – какие бы условия вы для него хотели бы создать, если бы не имели никаких ограни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611280" y="90792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Ключ «Новый дизай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8"/>
          <p:cNvSpPr/>
          <p:nvPr/>
        </p:nvSpPr>
        <p:spPr>
          <a:xfrm>
            <a:off x="468360" y="1700280"/>
            <a:ext cx="82072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ащимся предлагается неполный набор каких-либо характеристик изучаемого понятия или процесса. И задача добавить недостающие «дета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ный ключ активизирует креативное мышление, его можно использовать  в начале урока для вызова интереса к изучаем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611280" y="90792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Georgia"/>
              </a:rPr>
              <a:t>Ключ «Конструкто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8:50:27Z</dcterms:created>
  <dc:creator>Елена</dc:creator>
  <dc:description/>
  <dc:language>en-US</dc:language>
  <cp:lastModifiedBy>Admin</cp:lastModifiedBy>
  <dcterms:modified xsi:type="dcterms:W3CDTF">2014-04-16T20:15:39Z</dcterms:modified>
  <cp:revision>10</cp:revision>
  <dc:subject/>
  <dc:title>Слайд 1</dc:title>
</cp:coreProperties>
</file>